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57A9-8748-4A52-8046-9A88EC94B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50560" y="4011840"/>
            <a:ext cx="871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9385-6B14-4ED0-B6F7-5CBB51A86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50560" y="401184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6000" y="401184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AEFD2-9B40-4E63-85AC-B6C13FD64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2805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6800" y="1341360"/>
            <a:ext cx="2805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2680" y="1341360"/>
            <a:ext cx="2805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50560" y="4011840"/>
            <a:ext cx="2805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6800" y="4011840"/>
            <a:ext cx="2805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2680" y="4011840"/>
            <a:ext cx="2805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14F4-AC7C-4447-96EA-964CE2C37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2523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2523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50560" y="228600"/>
            <a:ext cx="87138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2523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0560" y="401184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5056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3D2C5-C610-4F73-9DE4-1DE208FC9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2523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16000" y="401184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0560" y="4011840"/>
            <a:ext cx="871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50560" y="4011840"/>
            <a:ext cx="871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0560" y="401184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16000" y="401184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2805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6800" y="1341360"/>
            <a:ext cx="2805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42680" y="1341360"/>
            <a:ext cx="2805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0560" y="4011840"/>
            <a:ext cx="2805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6800" y="4011840"/>
            <a:ext cx="2805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42680" y="4011840"/>
            <a:ext cx="2805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AA1B-67F1-4407-A5EB-5A2AFB9CD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2523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2523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1FF9-8DFA-4FC9-9604-CC5E82C57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B9F2-8C3B-4FC8-9200-08E930A5F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0560" y="228600"/>
            <a:ext cx="87138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1FB9-BEAC-45FF-BA3E-7B4B1EB04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2523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50560" y="401184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17373-B24B-4FAB-865D-AE2FBCD6D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2523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6000" y="401184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A60F-16E7-40A4-875D-0A7A3136A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560" y="4011840"/>
            <a:ext cx="871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3AF9C-D69A-4698-961C-D8955A757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72360" y="6244920"/>
            <a:ext cx="66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CA34-B09C-42C2-A25D-DF50920DCA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Comic Sans MS"/>
              </a:rPr>
              <a:t>What is it like farming in Kenya?</a:t>
            </a:r>
            <a:endParaRPr b="1" lang="en-US" sz="44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309708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7e7ff"/>
                </a:solidFill>
                <a:latin typeface="Comic Sans MS"/>
              </a:rPr>
              <a:t>Shamba – Subsistence agriculture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3860280"/>
            <a:ext cx="8713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mall (1.5ha), growing maize, millet, peas &amp; bea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Keep a few animals (cattle, sheep, chickens &amp; goats) – a source of eggs &amp; milk but the animals sold as a cash cro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nimals used as machiner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ome people trained as Masai Desi (basic veterinary  care) – example of a self help sche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Use basic irrigation systems to grow vegetabl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348000" y="189000"/>
            <a:ext cx="5504040" cy="365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25639-00D1-45C5-ABE1-1FF69FBFD8CB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Comic Sans MS"/>
              </a:rPr>
              <a:t>Cattle Ranch – Commercial Extensive agriculture</a:t>
            </a:r>
            <a:endParaRPr b="1" lang="en-US" sz="36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20,000 ha with 12000 head of catt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uropean own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ocal Masai worke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Formerly, there was extensive use of chemicals for dipping &amp; spraying, the cattle were corralled at night (to keep them safe from the lions) and any wildlife was shot as pes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ow, they have fewer cattle, do not corral them, but let them roam free – this saves the trees which do not have to be cut down for fenc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lions do get a few cattle – but does not bother anyone – as the main business is eco-tourism – visitors want to see the wildlife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462C-E95C-455F-9784-8D213BB750A9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43923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chael and Nicky Dyer, owners of Borana Ranch in Laikipia have 32,000 acres grassland, rocky outcrops and whistling but with only 2,000 head of beef cattle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643280" y="3719520"/>
            <a:ext cx="4359600" cy="2897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716360" y="552600"/>
            <a:ext cx="4149720" cy="27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87F2-42C5-470B-AD68-B4741344541E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360036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Comic Sans MS"/>
              </a:rPr>
              <a:t>Pastoral Nomads</a:t>
            </a:r>
            <a:endParaRPr b="1" lang="en-US" sz="36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249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ocal Masai peop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ove around with their herds of cattle looking for good graz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otally dependant on their cattle – food, clothing, wealt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oosing their land to arable farming so now grazing increasingly marginal lan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267080" y="189000"/>
            <a:ext cx="4876920" cy="326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539A-891E-4625-9C40-E42D93064750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7138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Comic Sans MS"/>
              </a:rPr>
              <a:t>Other types of help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511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flourishing cornfield is a rare sight in Kenya’s Rift Valley and a source of curiosity among his neighbour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riends see his eight-foot-tall cornstalks and ask, “Why does your corn look like this?”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kuito is happy to explain that he ploughs his field with two oxen, fertilizes it with cow manure and irrigates it with plastic tub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ut Nkuito and his community are members of the Maasai ethnic group, who traditionally make a living by herding cattle on the rolling grasslands of the Rift Valley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64000" y="3644640"/>
            <a:ext cx="3600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Joseph Nkuito grows corn and vegetables on his farm in Kenya’s Rift Valley, skills he learned from an MCC-supported organization called the Maasai Food Security Project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8" name="" descr="Joseph Nkuito grows corn and vegetables on his farm in Kenya's Rift Valley, skills he learned from an MCC-supported organization called the Maasai Food Security Project."/>
          <p:cNvPicPr/>
          <p:nvPr/>
        </p:nvPicPr>
        <p:blipFill>
          <a:blip r:embed="rId2"/>
          <a:stretch/>
        </p:blipFill>
        <p:spPr>
          <a:xfrm>
            <a:off x="5364000" y="1197000"/>
            <a:ext cx="3403800" cy="2257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C216-E258-4F1A-939B-BDB3F2DE11A8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Comic Sans MS"/>
              </a:rPr>
              <a:t>Other types of help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any families still live this semi-nomadic lifestyle and have little experience growing crop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owever, learning to make hay is helping some families raise crops and cattle simultaneousl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raditionally, the men of a Maasai family must leave home twice a year for several months to lead their cattle to green pasture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ut with the help of the Maasai Food Security Project, about 50 families now make hay to feed their cattle during dry seasons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076B4-2A1C-493E-A814-1112AD169A05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713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Comic Sans MS"/>
              </a:rPr>
              <a:t>How it works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o they are able to stay at home and raise crops throughout the year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y are also able to keep their cattle from overgrazing the Rift Valley’s grassland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saiah Kitunka learned haymaking three years ago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e packs cut grass into a wooden box, ties it into bales and stores it above ground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ow Kitunka teaches his neighbours these skills and sells his surplus hay to pay school fees for his childre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’ve seen a lot of benefits from haymaking since I started,” Kitunka says. “And I’m praying to God that he will give us more knowledge to continue farming.”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66D2-536D-4444-919E-56B604ADF71B}" type="slidenum">
              <a:t>1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Comic Sans MS"/>
              </a:rPr>
              <a:t>Plantations: t</a:t>
            </a:r>
            <a:r>
              <a:rPr b="1" lang="en-US" sz="3600" spc="-1" strike="noStrike">
                <a:solidFill>
                  <a:srgbClr val="b7e7ff"/>
                </a:solidFill>
                <a:latin typeface="Comic Sans MS"/>
              </a:rPr>
              <a:t>ea plantations owned by Brooke Bond</a:t>
            </a:r>
            <a:endParaRPr b="1" lang="en-US" sz="36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Monoculture (only Tea is grown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Cash crop sold to Europ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wned by a European Multi National Company, but the workers are local Kenya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6000 workers, working 9hrs a day, earning approx. 43p/day based on pick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using &amp; schooling provided fre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1264-7C70-4A0E-8B91-100CC5C2E591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Comic Sans MS"/>
              </a:rPr>
              <a:t>Plantations: other crops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rooke Bond has now diversified into Flowers (Floriculture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50 million Carnations &amp; Roses produc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l exported to Europe, especially in winter when prices are hig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loriculture now a major foreign currency earn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5000 worke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using &amp; schooling fre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 million flowers produced a da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nked to Nairobi airport by good roads &amp; then flown to Europ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st of the profits are returned to Europ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FCC6-875C-48FA-B6C8-1D4DC462EA35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Comic Sans MS"/>
              </a:rPr>
              <a:t>Is this the whole story?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at it seems to be saying is th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rook Bond (owned now by Unilever) is taking a lot of money ou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aying their workers hardly anyth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perating a monoculture – biodiversity reduced, and also usually means high chemical input to kill pests and control weed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flying flowers out by plane to Europ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tc etc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4982-EB38-44A8-AA22-CF6BCA21322D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148360" y="2781360"/>
            <a:ext cx="3663720" cy="31417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Comic Sans MS"/>
              </a:rPr>
              <a:t>This is Kenya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4469040" cy="4896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859280" y="1197000"/>
            <a:ext cx="4033800" cy="1224000"/>
          </a:xfrm>
          <a:prstGeom prst="wedgeRoundRectCallout">
            <a:avLst>
              <a:gd name="adj1" fmla="val -3245"/>
              <a:gd name="adj2" fmla="val 186833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t is over 1000m. This means it is cooler than the low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292720" y="6021360"/>
            <a:ext cx="1150920" cy="320760"/>
          </a:xfrm>
          <a:prstGeom prst="rect">
            <a:avLst/>
          </a:prstGeom>
          <a:ln w="9360">
            <a:solidFill>
              <a:srgbClr val="b7e7ff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6588000" y="6021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1000m col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227640" y="4005000"/>
            <a:ext cx="1368720" cy="2160360"/>
          </a:xfrm>
          <a:prstGeom prst="line">
            <a:avLst/>
          </a:prstGeom>
          <a:ln w="57240">
            <a:solidFill>
              <a:srgbClr val="0000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144BB-68C7-41AD-B713-8E2BBB313BCA}" type="slidenum">
              <a:t>2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Comic Sans MS"/>
              </a:rPr>
              <a:t>They do NOT say that …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provide a well equipped hospital which the workers get for fre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schooling is free, unlike other parts of Keny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at while the housing is modest ( no electricity), they do have clean water, whereas many villages still use wel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tly to protect themselves, they are trying to be sustainab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4D69-6FA5-457E-A600-824027C8ACE1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Comic Sans MS"/>
              </a:rPr>
              <a:t>What is sustainable agriculture?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is agriculture that does not use resources that they cannot replac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ter needs to be conserved where it is in short suppl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il/coal should not be used where there are other fuel sourc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wood is used to generate heat, then enough trees need to be planted to replace what you us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B012-3A86-4C98-9D31-7D45947AA9D4}" type="slidenum">
              <a:t>21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e7ff"/>
                </a:solidFill>
                <a:latin typeface="Comic Sans MS"/>
              </a:rPr>
              <a:t>Unilever Tea Kenya (UTK) are doing this</a:t>
            </a:r>
            <a:endParaRPr b="1" lang="en-US" sz="32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ood from managed plantations, mainly eucalyptus, is a renewable energy sourc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coppice the trees rather than cut them dow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dry the wood under plastic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means it burns better and the same wood produces 20% more he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1D9D-22D9-441F-A945-8543499B2E3B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Comic Sans MS"/>
              </a:rPr>
              <a:t>But even hear less rain is falling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796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member the water cycle in the rainforest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rains every da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trees trap the water which evaporates to form cloud during the hot sunny morn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 that there enough clouds for a rainstorm every afterno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281480" cy="262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3704-FDCB-4C84-9609-D01255BC664A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Comic Sans MS"/>
              </a:rPr>
              <a:t>This what used to happen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 the soil is good and climate is a bit cooler because of the altitud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 much of the forest has been cut dow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s means that the rain runs off down hill, taking the good soil with i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 there is less evaporation and few afternoon rain showe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 down the mountains, where the tea is growing, there is less water to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is estimated that Kenya needs to plant 100 million trees a year to restore the lost and declining forests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3EA4-5B4C-4AE2-92FF-79740BE5E452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Comic Sans MS"/>
              </a:rPr>
              <a:t>Brooke-Bond know this too, so …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y support forestry workers who teach farmers and children to plant tre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y have tree nurseries growing native trees with 320 000 seedlings that will eventually be planted on their own est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y have set aside 14% of their land as natural forest or conservation areas,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y will use rural areas such as forest edges and riverine strips,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d along roads or around housing, schools and offices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A034-E0F0-4AD2-B454-0AA1FEE317CC}" type="slidenum">
              <a:t>25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Comic Sans MS"/>
              </a:rPr>
              <a:t>What is the climate like in Kenya?</a:t>
            </a:r>
            <a:endParaRPr b="1" lang="en-US" sz="36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though Kenya sits on the equator, not all of the country is hot. Some parts are actually quite cold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because parts of Kenya are as much as 5000 metres above the sea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 every 1000 metres you go up, the temperature drops by about 6.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 – so if it is, say 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 in the plains, what would be the temperature at the top of Mount Kenya be? (5199m) –so what might you expect to find at the to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A62FA-D5EA-4934-9661-F99A16781205}" type="slidenum">
              <a:t>3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Comic Sans MS"/>
              </a:rPr>
              <a:t>What is the climate/vegetation like in Kenya?</a:t>
            </a:r>
            <a:endParaRPr b="1" lang="en-US" sz="36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re are basically three climatic regions in Kenya: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tropical coast – warm and humid most of the year – which naturally be a tropical fores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dry plains - has a dry season and a wet season, but the total rain in low- which grows grass and shrubs with the odd tree - savanna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fertile highlands – also has a dry season and a wet season but there is more all year round rain – naturally this would have more temperate tree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CFF3-ED11-455A-B9E1-507398DE56C5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0" y="615960"/>
            <a:ext cx="1301760" cy="1317960"/>
          </a:xfrm>
          <a:custGeom>
            <a:avLst/>
            <a:gdLst>
              <a:gd name="textAreaLeft" fmla="*/ 63360 w 1301760"/>
              <a:gd name="textAreaRight" fmla="*/ 1238400 w 1301760"/>
              <a:gd name="textAreaTop" fmla="*/ 63360 h 1317960"/>
              <a:gd name="textAreaBottom" fmla="*/ 1254600 h 1317960"/>
            </a:gdLst>
            <a:ahLst/>
            <a:rect l="textAreaLeft" t="textAreaTop" r="textAreaRight" b="textAreaBottom"/>
            <a:pathLst>
              <a:path w="21600" h="21869">
                <a:moveTo>
                  <a:pt x="3600" y="0"/>
                </a:moveTo>
                <a:arcTo wR="3600" hR="3600" stAng="16200000" swAng="-5400000"/>
                <a:lnTo>
                  <a:pt x="0" y="18269"/>
                </a:lnTo>
                <a:arcTo wR="3600" hR="3600" stAng="10800000" swAng="-5400000"/>
                <a:lnTo>
                  <a:pt x="18000" y="218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 &amp; dry - short wet sea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51280" y="3440880"/>
            <a:ext cx="1296720" cy="1589400"/>
          </a:xfrm>
          <a:custGeom>
            <a:avLst/>
            <a:gdLst>
              <a:gd name="textAreaLeft" fmla="*/ 63000 w 1296720"/>
              <a:gd name="textAreaRight" fmla="*/ 1233720 w 1296720"/>
              <a:gd name="textAreaTop" fmla="*/ 63000 h 1589400"/>
              <a:gd name="textAreaBottom" fmla="*/ 1526400 h 1589400"/>
            </a:gdLst>
            <a:ahLst/>
            <a:rect l="textAreaLeft" t="textAreaTop" r="textAreaRight" b="textAreaBottom"/>
            <a:pathLst>
              <a:path w="21600" h="26474">
                <a:moveTo>
                  <a:pt x="3600" y="0"/>
                </a:moveTo>
                <a:arcTo wR="3600" hR="3600" stAng="16200000" swAng="-5400000"/>
                <a:lnTo>
                  <a:pt x="0" y="22874"/>
                </a:lnTo>
                <a:arcTo wR="3600" hR="3600" stAng="10800000" swAng="-5400000"/>
                <a:lnTo>
                  <a:pt x="18000" y="26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 &amp; wet but with a drier sea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43640" y="2205000"/>
            <a:ext cx="1295280" cy="71172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ub and gr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2780280"/>
            <a:ext cx="1441440" cy="71172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la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49680" y="4564080"/>
            <a:ext cx="3098880" cy="131940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vannah – grassland which does well when you have a wet season and a dry sea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0918-2860-4A8C-ACFC-BC0077350E68}" type="slidenum">
              <a:t>5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288108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Comic Sans MS"/>
              </a:rPr>
              <a:t>This how they use the land</a:t>
            </a:r>
            <a:endParaRPr b="1" lang="en-US" sz="3600" spc="-1" strike="noStrike">
              <a:solidFill>
                <a:srgbClr val="b7e7ff"/>
              </a:solidFill>
              <a:latin typeface="Comic Sans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36760" y="0"/>
            <a:ext cx="5799240" cy="6597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2060640"/>
            <a:ext cx="2735280" cy="192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4"/>
                </a:solidFill>
                <a:latin typeface="Arial"/>
              </a:rPr>
              <a:t>Notice the red line around intensive agriculture – what is intensive agricultu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413080" y="4373640"/>
            <a:ext cx="3671640" cy="2484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0920" y="4365720"/>
            <a:ext cx="216036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4"/>
                </a:solidFill>
                <a:latin typeface="Arial"/>
              </a:rPr>
              <a:t>Have you ever seen products from Kenya in the supermarke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5E87-0788-4225-A05A-32B0333CE0D5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288108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Comic Sans MS"/>
              </a:rPr>
              <a:t>This how they use the land</a:t>
            </a:r>
            <a:endParaRPr b="1" lang="en-US" sz="3600" spc="-1" strike="noStrike">
              <a:solidFill>
                <a:srgbClr val="b7e7ff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381480" y="0"/>
            <a:ext cx="5798880" cy="6597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556000" y="4373640"/>
            <a:ext cx="3671640" cy="2484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8360" y="2060640"/>
            <a:ext cx="273528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4"/>
                </a:solidFill>
                <a:latin typeface="Arial"/>
              </a:rPr>
              <a:t>What is one kind of intensive agriculture that we have in the U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4005360"/>
            <a:ext cx="223344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4"/>
                </a:solidFill>
                <a:latin typeface="Arial"/>
              </a:rPr>
              <a:t>What do you think they may produce near Nairobi, the capital?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2F23-D042-416A-BA30-ABA3FD128247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381480" y="0"/>
            <a:ext cx="5798880" cy="6597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45102" t="19929" r="1941" b="0"/>
          <a:stretch/>
        </p:blipFill>
        <p:spPr>
          <a:xfrm>
            <a:off x="3297240" y="3933720"/>
            <a:ext cx="2859120" cy="2924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4000" y="333360"/>
            <a:ext cx="27352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4"/>
                </a:solidFill>
                <a:latin typeface="Arial"/>
              </a:rPr>
              <a:t>Where is most of the tea and coffe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3213000"/>
            <a:ext cx="22334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4"/>
                </a:solidFill>
                <a:latin typeface="Arial"/>
              </a:rPr>
              <a:t>Where is most of the cotton grow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916280"/>
            <a:ext cx="273528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4"/>
                </a:solidFill>
                <a:latin typeface="Arial"/>
              </a:rPr>
              <a:t>Where are the catt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2D4E-89B2-4066-94A3-B8D6CD025235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Comic Sans MS"/>
              </a:rPr>
              <a:t>There are 4 basic ways of farming in Kenya</a:t>
            </a:r>
            <a:endParaRPr b="1" lang="en-US" sz="36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hamba – Subsistence agricult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Cattle Ranch – Commercial Extensive agricult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astoral Nomads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lanta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64C1-5C83-485E-8DE5-35841E2C9285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55:40Z</dcterms:created>
  <dc:creator>PC USER</dc:creator>
  <dc:description/>
  <dc:language>en-US</dc:language>
  <cp:lastModifiedBy>Lindy</cp:lastModifiedBy>
  <dcterms:modified xsi:type="dcterms:W3CDTF">2009-03-15T16:26:35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